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F15D-CD8B-4B5C-9114-4B776B8F8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CC07-3C8A-44D8-AFCE-C41B501D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F57A-7AE1-4158-BD1D-F554DFF8A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2720-91FE-487D-AAA5-547F67659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CB78-BCA8-4270-93A5-70B58B9F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C26E-5862-4DBD-B706-8B8EF6F9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8568-86D1-4E4A-B833-715F56D1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1B8B-14AA-4F54-8EC4-FD9269E4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DA72-7316-4F7F-9461-7B7C9698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F9B8-D651-49F2-B702-F85725AC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889E-3DCF-4C49-B673-85845498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5517-6157-4E0B-93E6-BE2B5029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3C36-B771-46C1-8B37-B7C4F2CA4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00200" y="1371600"/>
            <a:ext cx="63244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Unit 3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I like running Section B</a:t>
            </a:r>
            <a:br>
              <a:rPr sz="48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0" y="-111240"/>
            <a:ext cx="9144000" cy="7089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685440" y="1599840"/>
            <a:ext cx="800100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--What does she like to do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宋体"/>
              </a:rPr>
              <a:t>--She likes to sing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6781680" y="2438280"/>
            <a:ext cx="156060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1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-111240"/>
            <a:ext cx="9144000" cy="70898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609480" y="9907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--What does she like to do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宋体"/>
              </a:rPr>
              <a:t>--She likes to sleep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1" descr=""/>
          <p:cNvPicPr/>
          <p:nvPr/>
        </p:nvPicPr>
        <p:blipFill>
          <a:blip r:embed="rId2"/>
          <a:srcRect l="0" t="0" r="0" b="15773"/>
          <a:stretch/>
        </p:blipFill>
        <p:spPr>
          <a:xfrm>
            <a:off x="1219320" y="2913120"/>
            <a:ext cx="274320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-111240"/>
            <a:ext cx="9144000" cy="7089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609480" y="708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--What does she like to do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宋体"/>
              </a:rPr>
              <a:t>--She likes to run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1" descr=""/>
          <p:cNvPicPr/>
          <p:nvPr/>
        </p:nvPicPr>
        <p:blipFill>
          <a:blip r:embed="rId2"/>
          <a:srcRect l="10960" t="10170" r="10937" b="8491"/>
          <a:stretch/>
        </p:blipFill>
        <p:spPr>
          <a:xfrm>
            <a:off x="6477120" y="2023920"/>
            <a:ext cx="19126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0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-111240"/>
            <a:ext cx="9144000" cy="7089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609480" y="380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--What does she like to do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宋体"/>
              </a:rPr>
              <a:t>--She likes to read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1" descr=""/>
          <p:cNvPicPr/>
          <p:nvPr/>
        </p:nvPicPr>
        <p:blipFill>
          <a:blip r:embed="rId2"/>
          <a:srcRect l="0" t="0" r="0" b="8303"/>
          <a:stretch/>
        </p:blipFill>
        <p:spPr>
          <a:xfrm>
            <a:off x="1371600" y="2590920"/>
            <a:ext cx="246708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-111240"/>
            <a:ext cx="9144000" cy="7089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76212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--What does she like to do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宋体"/>
              </a:rPr>
              <a:t>--She likes to writ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图片 2" descr=""/>
          <p:cNvPicPr/>
          <p:nvPr/>
        </p:nvPicPr>
        <p:blipFill>
          <a:blip r:embed="rId2"/>
          <a:srcRect l="0" t="0" r="0" b="9417"/>
          <a:stretch/>
        </p:blipFill>
        <p:spPr>
          <a:xfrm>
            <a:off x="1219320" y="2889360"/>
            <a:ext cx="274608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2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0" y="-111240"/>
            <a:ext cx="9144000" cy="7089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761760" y="159984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--What does she lik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宋体"/>
              </a:rPr>
              <a:t>--She likes the appl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1" descr=""/>
          <p:cNvPicPr/>
          <p:nvPr/>
        </p:nvPicPr>
        <p:blipFill>
          <a:blip r:embed="rId2"/>
          <a:srcRect l="0" t="0" r="9592" b="10035"/>
          <a:stretch/>
        </p:blipFill>
        <p:spPr>
          <a:xfrm>
            <a:off x="6939000" y="3436920"/>
            <a:ext cx="146988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8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0" y="-111240"/>
            <a:ext cx="9144000" cy="7089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0948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--What does he like to do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宋体"/>
              </a:rPr>
              <a:t>--He likes to run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2"/>
          <a:srcRect l="5616" t="6008" r="0" b="8021"/>
          <a:stretch/>
        </p:blipFill>
        <p:spPr>
          <a:xfrm>
            <a:off x="1523880" y="2895480"/>
            <a:ext cx="228600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0" y="-111240"/>
            <a:ext cx="9144000" cy="7089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68580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--What does he like to do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宋体"/>
              </a:rPr>
              <a:t>--He likes to jump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2"/>
          <a:srcRect l="0" t="0" r="0" b="10879"/>
          <a:stretch/>
        </p:blipFill>
        <p:spPr>
          <a:xfrm>
            <a:off x="1905120" y="3048120"/>
            <a:ext cx="17557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5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-111240"/>
            <a:ext cx="9144000" cy="7089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609480" y="1170000"/>
            <a:ext cx="822960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--What does he lik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宋体"/>
              </a:rPr>
              <a:t>--He likes sleeping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1" descr=""/>
          <p:cNvPicPr/>
          <p:nvPr/>
        </p:nvPicPr>
        <p:blipFill>
          <a:blip r:embed="rId2"/>
          <a:stretch/>
        </p:blipFill>
        <p:spPr>
          <a:xfrm>
            <a:off x="1038240" y="3157560"/>
            <a:ext cx="353376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-111240"/>
            <a:ext cx="9144000" cy="7089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76212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--What does he lik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宋体"/>
              </a:rPr>
              <a:t>--He likes watching TV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1" descr=""/>
          <p:cNvPicPr/>
          <p:nvPr/>
        </p:nvPicPr>
        <p:blipFill>
          <a:blip r:embed="rId2"/>
          <a:srcRect l="4819" t="8885" r="0" b="0"/>
          <a:stretch/>
        </p:blipFill>
        <p:spPr>
          <a:xfrm>
            <a:off x="1143000" y="2743200"/>
            <a:ext cx="312120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4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09400" y="1142640"/>
            <a:ext cx="575316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  <a:ea typeface="宋体"/>
              </a:rPr>
              <a:t>Sing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do you like to do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7184880" y="304920"/>
            <a:ext cx="1752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-111240"/>
            <a:ext cx="9144000" cy="70898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宋体"/>
              </a:rPr>
              <a:t>Homewor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76240" y="1143000"/>
            <a:ext cx="73915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宋体"/>
              </a:rPr>
              <a:t>将重点词汇每个抄写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  <a:ea typeface="宋体"/>
              </a:rPr>
              <a:t>10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宋体"/>
              </a:rPr>
              <a:t>遍，重点句型每个抄写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  <a:ea typeface="宋体"/>
              </a:rPr>
              <a:t>5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宋体"/>
              </a:rPr>
              <a:t>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宋体"/>
              </a:rPr>
              <a:t>和同桌将本课对话进行多次操练，直至熟练程度，回家后询问自己的家人的爱好兴趣，回校之后向同桌叙述家人的兴趣爱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-111240"/>
            <a:ext cx="9144000" cy="7089840"/>
          </a:xfrm>
          <a:prstGeom prst="rect">
            <a:avLst/>
          </a:prstGeom>
          <a:ln w="0">
            <a:noFill/>
          </a:ln>
        </p:spPr>
      </p:pic>
      <p:pic>
        <p:nvPicPr>
          <p:cNvPr id="100" name="矩形 3" descr=""/>
          <p:cNvPicPr/>
          <p:nvPr/>
        </p:nvPicPr>
        <p:blipFill>
          <a:blip r:embed="rId2"/>
          <a:stretch/>
        </p:blipFill>
        <p:spPr>
          <a:xfrm>
            <a:off x="853920" y="1432080"/>
            <a:ext cx="7394760" cy="25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4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601956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One, two, three.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do you like to do?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do you like to do?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I like to read.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I like to read.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Me, too! Me, too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6781680" y="213372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4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601956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One, two, three.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does he like to do?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does he like to do?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He likes to run.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He likes to run.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Me, too! Me, too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7026120" y="198108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4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601956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One, two, three.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does she like to do?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does she like to do?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She likes to sing.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She likes to sing.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Me, too! Me, too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6858000" y="228276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4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3440" y="914400"/>
            <a:ext cx="647712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宋体"/>
              </a:rPr>
              <a:t>对话练习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宋体"/>
              </a:rPr>
              <a:t>Dialogue Practic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0" y="-111240"/>
            <a:ext cx="9144000" cy="7089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60948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--What do you like to do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宋体"/>
              </a:rPr>
              <a:t>--I like to read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5867280" y="1828800"/>
            <a:ext cx="2438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0" y="-111240"/>
            <a:ext cx="9144000" cy="7089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609480" y="609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--What do you like to do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宋体"/>
              </a:rPr>
              <a:t>--I like to writ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5638680" y="2362320"/>
            <a:ext cx="253692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0" y="-111240"/>
            <a:ext cx="9144000" cy="7089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--What do you like to do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宋体"/>
              </a:rPr>
              <a:t>--I like to jump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2"/>
          <a:srcRect l="0" t="0" r="0" b="12485"/>
          <a:stretch/>
        </p:blipFill>
        <p:spPr>
          <a:xfrm>
            <a:off x="6324480" y="2443320"/>
            <a:ext cx="1755720" cy="18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6T02:10:19Z</dcterms:created>
  <dc:creator/>
  <dc:description/>
  <dc:language>en-US</dc:language>
  <cp:lastModifiedBy/>
  <dcterms:modified xsi:type="dcterms:W3CDTF">2015-07-21T06:49:55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